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0604-C274-4C1C-889A-57344174E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71D6-A14A-43C2-8ACB-1707D5EEA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9274-5EB8-4414-9047-6642F2F07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9B00-BB84-4559-B6D1-2C0B07A5C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8D901-3EBF-42D9-B923-68D1B07474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110D-0DD6-41A2-9355-65C6858531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C808F-5275-4F1B-9AA1-AC8BED17A2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FD62-3660-4BFD-AC84-09379CCACC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69ADC-87C7-4615-B4D5-57FCD5E43B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81EAA-258A-4F30-A318-08919E6071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0884-77FB-4207-A3EC-4AE42FF8C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2B51-C850-4226-9FA2-738540767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5450D-1CA8-47A0-910B-3B033C7B5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2A257-0553-46EE-A0CD-8970A1C393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BEDFA-C747-4229-8464-CEBA624AAC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FD247-53C7-47A7-8FA8-7F056B8616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0CB1B-4BAC-4FD0-9BCE-348230C61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5EF6-6A3D-42E9-B01C-1DDC80D5D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22B7-0F52-4E98-A438-256223EB6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68A1-D8F4-413E-BAD3-B64F76284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A9D9-FC15-4AFA-A1B9-18873AC38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C2FD-80E4-4C17-95D4-D272D212D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9743-DFFE-4B75-817D-1B3FBE3B8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0451-446E-4EC5-8E11-942E57BB3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68DDD2D-51EE-4A4C-911C-9A67059DB54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89DB012-4EFA-413C-B7EA-DF47800CDC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2649FA0-3D4C-4629-AE01-4D235AE59B1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4851604-ACA9-4646-8BFF-385D7245EA9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0-10-08T11:59:35Z</dcterms:modified>
  <cp:revision>318</cp:revision>
  <dc:subject/>
  <dc:title>REGRESSION ANALYSIS</dc:title>
</cp:coreProperties>
</file>